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287-9192-4B2C-AE06-3C439C367D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nunciazione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Beato Angelico (1397-1455); Cortona, Museo Dioces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acconto dell’annunciazione lo troviamo in Lc 1,26-38. E’ un brano splendido e ricchissimo. Vorrei fare solo alcune sottolin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viamo a leggere le parole dell’angelo in parallelo con un brano del profeta Sofonia. Sarà utile per capirne il sen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99C-4765-44EB-B218-4FBED449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05C-9847-4E7C-9815-5976F2C2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18D-3F40-43AA-89B5-B04E526E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60C-ECB3-417F-AE5D-6E8B2311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5F8-D04D-4675-AA28-EBF4861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7A1-9BE8-43C9-BB77-498D202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CCE-28EA-433A-9DC9-FD55E82F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F61-B46E-481B-96BD-E624BA6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D2B-92F2-43F2-A941-A37E948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317-A390-44BF-A730-BC124A5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E15-D0EC-4DE7-83FD-8E9C329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142-CADD-42D6-B0D5-B2D5419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5D2-5F6B-4049-8F61-B5ED2213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07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0000"/>
                </a:solidFill>
                <a:latin typeface="Comic Sans MS"/>
              </a:rPr>
              <a:t>Credo nello</a:t>
            </a:r>
            <a:br>
              <a:rPr sz="8800"/>
            </a:br>
            <a:r>
              <a:rPr b="0" lang="it-IT" sz="8800" spc="-1" strike="noStrike">
                <a:solidFill>
                  <a:srgbClr val="ff0000"/>
                </a:solidFill>
                <a:latin typeface="Comic Sans MS"/>
              </a:rPr>
              <a:t>Spirito Santo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73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1688" r="0" b="0"/>
          <a:stretch/>
        </p:blipFill>
        <p:spPr>
          <a:xfrm>
            <a:off x="2401920" y="0"/>
            <a:ext cx="447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8644" t="30522" r="25031" b="58413"/>
          <a:stretch/>
        </p:blipFill>
        <p:spPr>
          <a:xfrm>
            <a:off x="1116000" y="2138400"/>
            <a:ext cx="70563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22604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L’IMPOSIZIONE DELLE MAN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89000"/>
            <a:ext cx="8280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io onnipot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adre del Signore nostro Gesù Cris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e hai rigenerato questi tuoi fig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ll’acqua e dallo Spirito S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berandoli dal pecca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ondi in l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tuo santo Spirito Paracl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irito di sapienza e di intellet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irito di consiglio e di fortez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irito di scienza e di pietà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riempili dello spirito del tuo santo ti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 Cristo nostro Sign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377" r="0" b="0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377" r="0" b="0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e immagini dello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pirito San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437"/>
          <a:stretch/>
        </p:blipFill>
        <p:spPr>
          <a:xfrm>
            <a:off x="2570040" y="0"/>
            <a:ext cx="42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50393" r="514" b="0"/>
          <a:stretch/>
        </p:blipFill>
        <p:spPr>
          <a:xfrm>
            <a:off x="395280" y="2997360"/>
            <a:ext cx="4248000" cy="3493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90792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L V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0699" t="16175" r="20650" b="51215"/>
          <a:stretch/>
        </p:blipFill>
        <p:spPr>
          <a:xfrm>
            <a:off x="4714920" y="620640"/>
            <a:ext cx="3744720" cy="343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23840" y="517680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L FUO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0412" t="30522" r="28608" b="58008"/>
          <a:stretch/>
        </p:blipFill>
        <p:spPr>
          <a:xfrm>
            <a:off x="611280" y="476280"/>
            <a:ext cx="5327640" cy="216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436572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LA COLOM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4400"/>
            <a:ext cx="79930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65360" y="0"/>
            <a:ext cx="62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22:43:16Z</dcterms:created>
  <dc:creator>Paolo</dc:creator>
  <dc:description/>
  <dc:language>en-US</dc:language>
  <cp:lastModifiedBy>Paolo</cp:lastModifiedBy>
  <dcterms:modified xsi:type="dcterms:W3CDTF">2007-01-31T18:15:03Z</dcterms:modified>
  <cp:revision>10</cp:revision>
  <dc:subject/>
  <dc:title>Credo lo Spirito Santo…</dc:title>
</cp:coreProperties>
</file>